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076-C267-492F-BAB6-8D7D0D5D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2BA-D7C1-445F-B1E2-FD3F7082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D0A-1292-48DB-B450-B4DAE44C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1BA-9BC0-407D-852F-5F71D7A7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35D-64C3-4395-96EF-7CDCF2F7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1BD-E5A6-4828-9DB9-102FCD40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648-78FE-49A8-B272-6FF0BE9C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EFF-FBFB-409F-92B4-63CD3A40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FAF-305B-426F-999B-342BA288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974-77FF-401D-9B63-BAE3202E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030-F18D-4078-810E-24BC6C88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ADA-8C94-4F32-803F-B36ADD3B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CE3D-A1BC-49EE-87E0-D8F8EEF88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.panzavolta@indire.it" TargetMode="External"/><Relationship Id="rId3" Type="http://schemas.openxmlformats.org/officeDocument/2006/relationships/hyperlink" Target="mailto:a.turchi@indire.it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linked-project.wikispaces.com/WP5+Debriefing+and+evaluation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834920"/>
            <a:ext cx="8453160" cy="14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  <a:ea typeface="宋体"/>
              </a:rPr>
              <a:t>State of progress on debriefing &amp; evalu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27240" y="5681520"/>
            <a:ext cx="381636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Silvia Panzavolta,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s.panzavolta@indire.it</a:t>
            </a: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Antonella Turchi,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a.turchi@indire.it</a:t>
            </a: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ANSA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LINKED Management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6f16"/>
                </a:solidFill>
                <a:latin typeface="Georgia"/>
              </a:rPr>
              <a:t>Brussels, September 30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Cooper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1600" y="2297160"/>
            <a:ext cx="9171000" cy="22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The quality of the cooperation is very goo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Each partner is playing its ro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Peer learning proc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63600" y="2585880"/>
            <a:ext cx="76978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6f16"/>
                </a:solidFill>
                <a:latin typeface="Georgia"/>
              </a:rPr>
              <a:t>What are your feedback about the points we mentioned?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6f16"/>
                </a:solidFill>
                <a:latin typeface="Georgia"/>
              </a:rPr>
              <a:t>Thank you for your contribu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8880" y="2341440"/>
            <a:ext cx="86486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Quality is never an accident; it is always the result of high intention, sincere effort, intelligent direction and skillful execution; it represents the wise choice of many alternativ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6280" y="2371680"/>
            <a:ext cx="315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“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0960" y="4264200"/>
            <a:ext cx="3502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eorgia"/>
              </a:rPr>
              <a:t>William A. Fo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Actions do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3560" y="2017800"/>
            <a:ext cx="9171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Quality assurance pla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Problem reporting for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Project partner questionnai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All documents made public through the project site at the following pag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linked-project.wikispaces.com/WP5+Debriefing+and+evalu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Problems report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1600" y="2514600"/>
            <a:ext cx="917100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o far, no problems were reported, apart from the fact that due to summer vacations, it has been a little bit difficult to start again…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Partners questionnair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600" y="2514600"/>
            <a:ext cx="917100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o far, only one partner has answered the questionnaire. The deadline was August 31°, so please remember to do it when you’re back hom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THANK YOU </a:t>
            </a:r>
            <a:r>
              <a:rPr b="0" lang="en-US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To-do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600" y="2611440"/>
            <a:ext cx="9171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Evaluation report (end of projec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Analysis of questionnaire data (when available) and publication on project si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Structure of the final repor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1600" y="1793880"/>
            <a:ext cx="91710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eorgia"/>
              </a:rPr>
              <a:t>Aims</a:t>
            </a: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: analysis of the outputs compared with the description of Work; analysis of outputs themselves; shared views on the proc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eorgia"/>
              </a:rPr>
              <a:t>Expected result</a:t>
            </a: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: common report on the quality of the project also defining some ideas to improve future work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eorgia"/>
              </a:rPr>
              <a:t>Tools</a:t>
            </a: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: interviews with partners; analysis of documents; external reviewer (colleague not involved in the projec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82640" y="2236680"/>
            <a:ext cx="87901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6f16"/>
                </a:solidFill>
                <a:latin typeface="Georgia"/>
              </a:rPr>
              <a:t>Debriefing on ongoing outputs and pro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82640" y="696960"/>
            <a:ext cx="8850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Outpu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1600" y="1865160"/>
            <a:ext cx="9026280" cy="59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All deliverable due have been do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The quality of the outputs so far is hig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9900"/>
                </a:solidFill>
                <a:latin typeface="Georgia"/>
              </a:rPr>
              <a:t>Methodology used. Multiple views. References to previous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ff9900"/>
                </a:solidFill>
                <a:latin typeface="Georgia"/>
              </a:rPr>
              <a:t>work. Analysis of priorities to partner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Consensus has been searched for and fou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Organizational note: according to us, it has been a very good choice to use a wiki as a project site, since it gives responsibility on everyone but also gives a change to manage file publication in a more flexible wa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 </cp:lastModifiedBy>
  <dcterms:modified xsi:type="dcterms:W3CDTF">2011-02-23T11:43:26Z</dcterms:modified>
  <cp:revision>28</cp:revision>
  <dc:subject/>
  <dc:title>PowerPoint Presentation</dc:title>
</cp:coreProperties>
</file>